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505D-473A-4DF6-8F1F-BB79B1E0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8916-7901-40BD-8E40-5BD0EA33F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E2D9-982C-4B41-92EB-DEA21848F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5B4-ED9E-4785-A799-AAB3F68E0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EA99-D95B-40B6-8068-F2DD263AE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1611-253D-4DC4-BD1E-259608A1A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432E-F549-4D61-8D0A-5324571ED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40F2-66B6-49F1-BFAA-4BB8FE68B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10A7-952D-4A35-AE10-D33F08D3F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A2B6-04A1-4662-BE38-E012F79BA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20D9-4F74-4068-81B2-E35FAF096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9E9E-CE4C-4504-86F0-88A28F007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688EC4-0779-4854-B3AF-76A8DA8C1AE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4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0 X 0,4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1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1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7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8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11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12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.00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.8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4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.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.00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.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4.000 X 0,11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9640" y="1803240"/>
            <a:ext cx="5094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14T08:50:58Z</dcterms:modified>
  <cp:revision>1</cp:revision>
  <dc:subject/>
  <dc:title/>
</cp:coreProperties>
</file>